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396-AD74-4AC8-9B23-F1B0998E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5A0-3F24-42F5-B4A3-F69A9F84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1304-F442-405B-B24E-0D9DBB84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080-0201-4F15-8CDF-C6837FE8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819-FEFD-40D6-A889-24B2E851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6D6-57F4-4C46-8000-3DD667F1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948-5930-4077-A8DD-0FEFBF9E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AF4-A887-42B5-B074-ED81224A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2B1-6155-4C29-BD14-0C081839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86F-FA72-40C7-9D15-7AD34C00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23C-5B19-4296-9992-026AE3B5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42C-5E0C-4BFF-B6B8-10369DE7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ACE55-4A36-4FBE-A8B7-A071A4E628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253AB-FF51-4517-B579-FE21AB76D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s of the At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st, but not Le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 Clou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 surrounding the nucleus of an atom where electrons are most likely to be 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lectron Cloud.jpg"/>
          <p:cNvPicPr/>
          <p:nvPr/>
        </p:nvPicPr>
        <p:blipFill>
          <a:blip r:embed="rId1"/>
          <a:stretch/>
        </p:blipFill>
        <p:spPr>
          <a:xfrm>
            <a:off x="2690640" y="3135240"/>
            <a:ext cx="37371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matter is made up of w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Periodic Table.gif"/>
          <p:cNvPicPr/>
          <p:nvPr/>
        </p:nvPicPr>
        <p:blipFill>
          <a:blip r:embed="rId1"/>
          <a:stretch/>
        </p:blipFill>
        <p:spPr>
          <a:xfrm>
            <a:off x="2346480" y="2786040"/>
            <a:ext cx="43066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made of atoms of only one k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Gold Bar.jpg"/>
          <p:cNvPicPr/>
          <p:nvPr/>
        </p:nvPicPr>
        <p:blipFill>
          <a:blip r:embed="rId1"/>
          <a:stretch/>
        </p:blipFill>
        <p:spPr>
          <a:xfrm>
            <a:off x="3176640" y="4600440"/>
            <a:ext cx="30132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loud Callout 6"/>
          <p:cNvSpPr/>
          <p:nvPr/>
        </p:nvSpPr>
        <p:spPr>
          <a:xfrm>
            <a:off x="4791240" y="3290760"/>
            <a:ext cx="2633400" cy="2190960"/>
          </a:xfrm>
          <a:prstGeom prst="cloudCallout">
            <a:avLst>
              <a:gd name="adj1" fmla="val -61157"/>
              <a:gd name="adj2" fmla="val 39421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lton’s 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ter is made up of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oms cannot be divided into smaller pie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atoms of an element are exactly a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elements are made of different kinds of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Gold Ball.jpg"/>
          <p:cNvPicPr/>
          <p:nvPr/>
        </p:nvPicPr>
        <p:blipFill>
          <a:blip r:embed="rId1"/>
          <a:stretch/>
        </p:blipFill>
        <p:spPr>
          <a:xfrm>
            <a:off x="5427720" y="3654360"/>
            <a:ext cx="1258920" cy="1398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John Dalton.jpg"/>
          <p:cNvPicPr/>
          <p:nvPr/>
        </p:nvPicPr>
        <p:blipFill>
          <a:blip r:embed="rId2"/>
          <a:stretch/>
        </p:blipFill>
        <p:spPr>
          <a:xfrm>
            <a:off x="2817720" y="4737240"/>
            <a:ext cx="160992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okes’ C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William Crookes.JPG"/>
          <p:cNvPicPr/>
          <p:nvPr/>
        </p:nvPicPr>
        <p:blipFill>
          <a:blip r:embed="rId1"/>
          <a:srcRect l="-79556" t="0" r="-7955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205520" y="61261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050840" y="20304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eam of L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6291000" y="20304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ged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.J. Thom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JJ Thomson.jpg"/>
          <p:cNvPicPr/>
          <p:nvPr/>
        </p:nvPicPr>
        <p:blipFill>
          <a:blip r:embed="rId1"/>
          <a:srcRect l="0" t="-1050" r="0" b="-105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atively charged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rpri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idence that particles smaller than the atom do ex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063880" y="61261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Thomson Model.png"/>
          <p:cNvPicPr/>
          <p:nvPr/>
        </p:nvPicPr>
        <p:blipFill>
          <a:blip r:embed="rId2"/>
          <a:stretch/>
        </p:blipFill>
        <p:spPr>
          <a:xfrm>
            <a:off x="5851440" y="4673520"/>
            <a:ext cx="18604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nest Rutherf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t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ly charged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ucle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nse center of positive charge in the center of an at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4" descr="Ernest Rutherford.jpg"/>
          <p:cNvPicPr/>
          <p:nvPr/>
        </p:nvPicPr>
        <p:blipFill>
          <a:blip r:embed="rId1"/>
          <a:srcRect l="-12506" t="0" r="-12506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6102000" y="613404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s 12-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Rutherford's Atomic Model.jpg"/>
          <p:cNvPicPr/>
          <p:nvPr/>
        </p:nvPicPr>
        <p:blipFill>
          <a:blip r:embed="rId2"/>
          <a:stretch/>
        </p:blipFill>
        <p:spPr>
          <a:xfrm>
            <a:off x="1562040" y="4471920"/>
            <a:ext cx="200664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st one proble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tom’s electrons have almost no mas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cording to Rutherford’s model, the atom was only made up of protons and electron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, the mass of most atoms is at least twice as great as the mass of its proton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 then does the extra mass come from?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 years lat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discovered what other particle that accounted for the additional ma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Atom.png"/>
          <p:cNvPicPr/>
          <p:nvPr/>
        </p:nvPicPr>
        <p:blipFill>
          <a:blip r:embed="rId1"/>
          <a:stretch/>
        </p:blipFill>
        <p:spPr>
          <a:xfrm>
            <a:off x="2727360" y="2612880"/>
            <a:ext cx="3903480" cy="3513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1547640" y="6211800"/>
            <a:ext cx="62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utron: Electrically-neutral particle that has the same mass 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on and is found in an atom’s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0:09:17Z</dcterms:created>
  <dc:creator>Cleophis Carson</dc:creator>
  <dc:description/>
  <dc:language>en-US</dc:language>
  <cp:lastModifiedBy>Cleophis Carson</cp:lastModifiedBy>
  <dcterms:modified xsi:type="dcterms:W3CDTF">2011-09-05T15:52:49Z</dcterms:modified>
  <cp:revision>2</cp:revision>
  <dc:subject/>
  <dc:title>Models of the Atom</dc:title>
</cp:coreProperties>
</file>